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jpeg" ContentType="image/jpeg"/>
  <Override PartName="/ppt/media/image26.jpeg" ContentType="image/jpeg"/>
  <Override PartName="/ppt/media/image25.jpeg" ContentType="image/jpeg"/>
  <Override PartName="/ppt/media/image21.jpeg" ContentType="image/jpeg"/>
  <Override PartName="/ppt/media/image19.png" ContentType="image/png"/>
  <Override PartName="/ppt/media/image28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23.jpeg" ContentType="image/jpeg"/>
  <Override PartName="/ppt/media/image13.png" ContentType="image/png"/>
  <Override PartName="/ppt/media/image12.jpeg" ContentType="image/jpeg"/>
  <Override PartName="/ppt/media/image20.pct" ContentType="image/x-pict"/>
  <Override PartName="/ppt/media/image11.png" ContentType="image/png"/>
  <Override PartName="/ppt/media/image30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5.pct" ContentType="image/x-pict"/>
  <Override PartName="/ppt/media/image8.png" ContentType="image/png"/>
  <Override PartName="/ppt/media/image38.png" ContentType="image/png"/>
  <Override PartName="/ppt/media/image36.jpeg" ContentType="image/jpeg"/>
  <Override PartName="/ppt/media/image33.jpeg" ContentType="image/jpeg"/>
  <Override PartName="/ppt/media/image27.jpeg" ContentType="image/jpeg"/>
  <Override PartName="/ppt/media/image37.pct" ContentType="image/x-pict"/>
  <Override PartName="/ppt/media/image14.png" ContentType="image/png"/>
  <Override PartName="/ppt/media/image22.jpeg" ContentType="image/jpeg"/>
  <Override PartName="/ppt/media/image9.png" ContentType="image/png"/>
  <Override PartName="/ppt/media/image6.pct" ContentType="image/x-pict"/>
  <Override PartName="/ppt/media/image7.png" ContentType="image/png"/>
  <Override PartName="/ppt/media/image34.jpeg" ContentType="image/jpeg"/>
  <Override PartName="/ppt/media/image4.pct" ContentType="image/x-pict"/>
  <Override PartName="/ppt/media/image3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2.pct" ContentType="image/x-pict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1266B-5947-4AAD-8450-C44F07BE99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csc.mrc.ac.uk/d/file/LargeFigs/Bell/fMRI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20B9-F159-4669-8D77-C4DE154BE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5B41-F946-4C2A-AC20-A9780F74C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CC68-479B-4372-8975-4C6D13898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2D59-7F65-4C01-B6D3-E88F21667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EF750-2F06-41FE-9638-3757F1037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9EBAE-6D5F-4A5F-9EE0-5BA1ED74B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90E4F-5C75-4FBD-AEAE-AAD601DBA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8A413-0D7B-4092-93F6-C57BE2A48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8FA9C-1C43-400F-AF70-EB144C222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8835B-36EC-4C40-ACD5-CC0FE4165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91577-E422-4B67-BF94-1A2664A4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D84F-508B-46F2-96BB-41337ECDC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0CC45-6241-4A87-8226-A0402D00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BA7F0-F493-42BD-90E3-10008058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72398-9963-4F76-8CC2-4678C3F63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58BA4-3214-48E2-A924-3872908A3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E2CC4-C1C7-432D-8293-A07116F5C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B6FE-C118-4148-9C53-37C3D8650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5B30-ACB7-4167-B573-4F4EEF77E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D497-41CE-40BB-835F-00AECF993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25D9-BDDA-41CA-B758-0FD826259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7F34-C8D9-4F6A-9282-AB886ECA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717C-BDE9-44F5-A3FF-697347F2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6A71-2CA6-420B-A231-49E08074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0DD43-6711-4A88-8301-3430A40076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3DA84-AD67-40BE-889B-5CEDD3561F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micro.magnet.fsu.edu/electromag/java/faraday/" TargetMode="External"/><Relationship Id="rId2" Type="http://schemas.openxmlformats.org/officeDocument/2006/relationships/hyperlink" Target="http://micro.magnet.fsu.edu/electromag/java/faraday/" TargetMode="External"/><Relationship Id="rId3" Type="http://schemas.openxmlformats.org/officeDocument/2006/relationships/hyperlink" Target="http://micro.magnet.fsu.edu/electromag/java/faraday/" TargetMode="External"/><Relationship Id="rId4" Type="http://schemas.openxmlformats.org/officeDocument/2006/relationships/hyperlink" Target="http://micro.magnet.fsu.edu/electromag/java/faraday/" TargetMode="External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ct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jpeg"/><Relationship Id="rId10" Type="http://schemas.openxmlformats.org/officeDocument/2006/relationships/image" Target="../media/image31.jpeg"/><Relationship Id="rId11" Type="http://schemas.openxmlformats.org/officeDocument/2006/relationships/image" Target="../media/image32.jpeg"/><Relationship Id="rId12" Type="http://schemas.openxmlformats.org/officeDocument/2006/relationships/image" Target="../media/image33.jpeg"/><Relationship Id="rId13" Type="http://schemas.openxmlformats.org/officeDocument/2006/relationships/image" Target="../media/image34.jpeg"/><Relationship Id="rId14" Type="http://schemas.openxmlformats.org/officeDocument/2006/relationships/hyperlink" Target="http://www.colorado.edu/physics/2000/tomography/final_rib_cage.html" TargetMode="External"/><Relationship Id="rId15" Type="http://schemas.openxmlformats.org/officeDocument/2006/relationships/hyperlink" Target="http://www.colorado.edu/physics/2000/tomography/final_rib_cage.html" TargetMode="External"/><Relationship Id="rId16" Type="http://schemas.openxmlformats.org/officeDocument/2006/relationships/hyperlink" Target="http://www.colorado.edu/physics/2000/tomography/final_rib_cage.html" TargetMode="External"/><Relationship Id="rId17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ct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reativecommons.org/licenses/by-nc-sa/3.0/us" TargetMode="External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ct"/><Relationship Id="rId3" Type="http://schemas.openxmlformats.org/officeDocument/2006/relationships/image" Target="../media/image5.pct"/><Relationship Id="rId4" Type="http://schemas.openxmlformats.org/officeDocument/2006/relationships/image" Target="../media/image6.pct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609480"/>
            <a:ext cx="914400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mistry 125: Lecture 58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ch 5, 2010</a:t>
            </a:r>
            <a:br>
              <a:rPr sz="3200"/>
            </a:br>
            <a:br>
              <a:rPr sz="5400"/>
            </a:br>
            <a:r>
              <a:rPr b="0" lang="en-US" sz="5400" spc="-1" strike="noStrike">
                <a:solidFill>
                  <a:srgbClr val="0000ff"/>
                </a:solidFill>
                <a:latin typeface="Times New Roman"/>
              </a:rPr>
              <a:t>Practical IR.</a:t>
            </a:r>
            <a:br>
              <a:rPr sz="5400"/>
            </a:br>
            <a:r>
              <a:rPr b="0" lang="en-US" sz="5400" spc="-1" strike="noStrike">
                <a:solidFill>
                  <a:srgbClr val="0000ff"/>
                </a:solidFill>
                <a:latin typeface="Times New Roman"/>
              </a:rPr>
              <a:t> NMR Spectroscopy </a:t>
            </a:r>
            <a:br>
              <a:rPr sz="5400"/>
            </a:br>
            <a:r>
              <a:rPr b="0" lang="en-US" sz="5400" spc="-1" strike="noStrike">
                <a:solidFill>
                  <a:srgbClr val="0000ff"/>
                </a:solidFill>
                <a:latin typeface="Times New Roman"/>
              </a:rPr>
              <a:t>Precession and Imaging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4724280"/>
            <a:ext cx="80010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474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7994520" y="6019920"/>
            <a:ext cx="1067040" cy="687600"/>
            <a:chOff x="7994520" y="6019920"/>
            <a:chExt cx="1067040" cy="687600"/>
          </a:xfrm>
        </p:grpSpPr>
        <p:pic>
          <p:nvPicPr>
            <p:cNvPr id="92" name="" descr=""/>
            <p:cNvPicPr/>
            <p:nvPr/>
          </p:nvPicPr>
          <p:blipFill>
            <a:blip r:embed="rId1"/>
            <a:stretch/>
          </p:blipFill>
          <p:spPr>
            <a:xfrm>
              <a:off x="8186760" y="6019920"/>
              <a:ext cx="685800" cy="25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7994520" y="6248520"/>
              <a:ext cx="1067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or copyright notice see final page of this fi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645920" y="76320"/>
            <a:ext cx="224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ng chem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hael Fara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53200" y="838080"/>
            <a:ext cx="20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discovered benz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illuminating g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raday 183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overs Magnetic Induc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Invents Fiel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6019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gnetism from </a:t>
            </a:r>
            <a:r>
              <a:rPr b="0" i="1" lang="en-US" sz="4000" spc="-1" strike="noStrike">
                <a:solidFill>
                  <a:srgbClr val="0000ff"/>
                </a:solidFill>
                <a:latin typeface="Times New Roman"/>
              </a:rPr>
              <a:t>acceleratin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electri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491920" y="5257800"/>
            <a:ext cx="399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760bfc"/>
                </a:solidFill>
                <a:uFillTx/>
                <a:latin typeface="Times New Roman"/>
                <a:hlinkClick r:id="rId1"/>
              </a:rPr>
              <a:t>http://micro.magnet.</a:t>
            </a:r>
            <a:r>
              <a:rPr b="0" lang="en-US" sz="1400" spc="-1" strike="noStrike" u="sng">
                <a:solidFill>
                  <a:srgbClr val="760bfc"/>
                </a:solidFill>
                <a:uFillTx/>
                <a:latin typeface="Times New Roman"/>
                <a:hlinkClick r:id="rId2"/>
              </a:rPr>
              <a:t>fsu</a:t>
            </a:r>
            <a:r>
              <a:rPr b="0" lang="en-US" sz="1400" spc="-1" strike="noStrike" u="sng">
                <a:solidFill>
                  <a:srgbClr val="760bfc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en-US" sz="1400" spc="-1" strike="noStrike" u="sng">
                <a:solidFill>
                  <a:srgbClr val="760bfc"/>
                </a:solidFill>
                <a:uFillTx/>
                <a:latin typeface="Times New Roman"/>
                <a:hlinkClick r:id="rId4"/>
              </a:rPr>
              <a:t>edu/electromag/java/faraday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28800" y="3809880"/>
            <a:ext cx="5410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lectricity from </a:t>
            </a:r>
            <a:r>
              <a:rPr b="0" i="1" lang="en-US" sz="4000" spc="-1" strike="noStrike">
                <a:solidFill>
                  <a:srgbClr val="0000ff"/>
                </a:solidFill>
                <a:latin typeface="Times New Roman"/>
              </a:rPr>
              <a:t>changin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magnet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5715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ty years later Maxwell built these into a  comprehensive theory of light and electromagneti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3270240" y="1457280"/>
            <a:ext cx="3162240" cy="35053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533520" y="4937040"/>
            <a:ext cx="8381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simple things can be deduced mathematically more rapidly than they can be really understood in a fundamental or simple sense… the precession of a top looks like some kind of a miracle involving right angles and circles, and twists and right-hand screws.  What we should do is to understand it in a more physical w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2951280" y="1447920"/>
            <a:ext cx="3144600" cy="350496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c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685800" y="1371600"/>
            <a:ext cx="2133720" cy="16272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6386400" y="1219320"/>
            <a:ext cx="1766880" cy="37335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6471720" y="6396120"/>
            <a:ext cx="19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ynman, I, 20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7315200" y="304920"/>
            <a:ext cx="1766880" cy="373356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90° Phase Lag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“falls around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00200" y="1752480"/>
            <a:ext cx="5715000" cy="4038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022560" y="1752480"/>
            <a:ext cx="0" cy="403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470480" y="1752480"/>
            <a:ext cx="0" cy="403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854680" y="1752480"/>
            <a:ext cx="0" cy="403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38360" y="382284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50920" y="3581280"/>
            <a:ext cx="119700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ORCE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from string and gravity via spo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28600" y="25909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340800" y="6248520"/>
            <a:ext cx="22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M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5791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400800" y="5791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133720" y="57913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876920" y="5791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05320" y="5791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04920" y="45720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315200" y="49528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ELO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362960" y="868320"/>
            <a:ext cx="58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Where on the rim is the rightward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velocity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 maximu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210320" y="1295280"/>
            <a:ext cx="611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Where it has been pushed to the right for the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longest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368960" y="2362320"/>
            <a:ext cx="2286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7305840" y="304920"/>
            <a:ext cx="1827000" cy="37335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7467480" y="609480"/>
            <a:ext cx="60984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229600" y="3886200"/>
            <a:ext cx="609480" cy="0"/>
          </a:xfrm>
          <a:prstGeom prst="line">
            <a:avLst/>
          </a:prstGeom>
          <a:ln w="7632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696080" y="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above center  force to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467480" y="403848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below center  force to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609560" y="2360520"/>
            <a:ext cx="5693040" cy="2820960"/>
          </a:xfrm>
          <a:custGeom>
            <a:avLst/>
            <a:gdLst/>
            <a:ahLst/>
            <a:rect l="l" t="t" r="r" b="b"/>
            <a:pathLst>
              <a:path w="3586" h="1777">
                <a:moveTo>
                  <a:pt x="0" y="920"/>
                </a:moveTo>
                <a:cubicBezTo>
                  <a:pt x="82" y="782"/>
                  <a:pt x="409" y="0"/>
                  <a:pt x="882" y="3"/>
                </a:cubicBezTo>
                <a:cubicBezTo>
                  <a:pt x="1738" y="10"/>
                  <a:pt x="1829" y="1777"/>
                  <a:pt x="2675" y="1768"/>
                </a:cubicBezTo>
                <a:cubicBezTo>
                  <a:pt x="3269" y="1755"/>
                  <a:pt x="3524" y="1010"/>
                  <a:pt x="3586" y="934"/>
                </a:cubicBezTo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465800" y="2370240"/>
            <a:ext cx="2854080" cy="2811240"/>
          </a:xfrm>
          <a:custGeom>
            <a:avLst/>
            <a:gdLst/>
            <a:ahLst/>
            <a:rect l="l" t="t" r="r" b="b"/>
            <a:pathLst>
              <a:path w="1798" h="1771">
                <a:moveTo>
                  <a:pt x="1798" y="1768"/>
                </a:moveTo>
                <a:cubicBezTo>
                  <a:pt x="899" y="1771"/>
                  <a:pt x="800" y="0"/>
                  <a:pt x="0" y="0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617840" y="2362320"/>
            <a:ext cx="2847960" cy="2814480"/>
          </a:xfrm>
          <a:custGeom>
            <a:avLst/>
            <a:gdLst/>
            <a:ahLst/>
            <a:rect l="l" t="t" r="r" b="b"/>
            <a:pathLst>
              <a:path w="1794" h="1773">
                <a:moveTo>
                  <a:pt x="0" y="1773"/>
                </a:moveTo>
                <a:cubicBezTo>
                  <a:pt x="848" y="1771"/>
                  <a:pt x="949" y="0"/>
                  <a:pt x="1794" y="3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7937640" y="585720"/>
            <a:ext cx="436320" cy="1623600"/>
            <a:chOff x="7937640" y="585720"/>
            <a:chExt cx="436320" cy="1623600"/>
          </a:xfrm>
        </p:grpSpPr>
        <p:sp>
          <p:nvSpPr>
            <p:cNvPr id="267" name=""/>
            <p:cNvSpPr/>
            <p:nvPr/>
          </p:nvSpPr>
          <p:spPr>
            <a:xfrm>
              <a:off x="7937640" y="597960"/>
              <a:ext cx="220680" cy="1611360"/>
            </a:xfrm>
            <a:custGeom>
              <a:avLst/>
              <a:gdLst/>
              <a:ahLst/>
              <a:rect l="l" t="t" r="r" b="b"/>
              <a:pathLst>
                <a:path w="139" h="1026">
                  <a:moveTo>
                    <a:pt x="3" y="1026"/>
                  </a:moveTo>
                  <a:cubicBezTo>
                    <a:pt x="0" y="607"/>
                    <a:pt x="43" y="2"/>
                    <a:pt x="139" y="0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155080" y="585720"/>
              <a:ext cx="218880" cy="1593720"/>
            </a:xfrm>
            <a:custGeom>
              <a:avLst/>
              <a:gdLst/>
              <a:ahLst/>
              <a:rect l="l" t="t" r="r" b="b"/>
              <a:pathLst>
                <a:path w="138" h="1015">
                  <a:moveTo>
                    <a:pt x="135" y="1015"/>
                  </a:moveTo>
                  <a:cubicBezTo>
                    <a:pt x="138" y="596"/>
                    <a:pt x="96" y="2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7939080" y="2124000"/>
            <a:ext cx="0" cy="152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201160" y="593640"/>
            <a:ext cx="909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0000"/>
                </a:solidFill>
                <a:latin typeface="Times New Roman"/>
              </a:rPr>
              <a:t>accumulating rightward veloc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7935840" y="2251080"/>
            <a:ext cx="459000" cy="1619280"/>
            <a:chOff x="7935840" y="2251080"/>
            <a:chExt cx="459000" cy="1619280"/>
          </a:xfrm>
        </p:grpSpPr>
        <p:sp>
          <p:nvSpPr>
            <p:cNvPr id="272" name=""/>
            <p:cNvSpPr/>
            <p:nvPr/>
          </p:nvSpPr>
          <p:spPr>
            <a:xfrm flipV="1">
              <a:off x="7935840" y="2251080"/>
              <a:ext cx="225360" cy="1611360"/>
            </a:xfrm>
            <a:custGeom>
              <a:avLst/>
              <a:gdLst/>
              <a:ahLst/>
              <a:rect l="l" t="t" r="r" b="b"/>
              <a:pathLst>
                <a:path w="139" h="1026">
                  <a:moveTo>
                    <a:pt x="3" y="1026"/>
                  </a:moveTo>
                  <a:cubicBezTo>
                    <a:pt x="0" y="607"/>
                    <a:pt x="43" y="2"/>
                    <a:pt x="139" y="0"/>
                  </a:cubicBezTo>
                </a:path>
              </a:pathLst>
            </a:custGeom>
            <a:noFill/>
            <a:ln w="572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153280" y="2268360"/>
              <a:ext cx="241560" cy="1602000"/>
            </a:xfrm>
            <a:custGeom>
              <a:avLst/>
              <a:gdLst/>
              <a:ahLst/>
              <a:rect l="l" t="t" r="r" b="b"/>
              <a:pathLst>
                <a:path w="152" h="1009">
                  <a:moveTo>
                    <a:pt x="149" y="0"/>
                  </a:moveTo>
                  <a:cubicBezTo>
                    <a:pt x="152" y="414"/>
                    <a:pt x="98" y="1007"/>
                    <a:pt x="0" y="1009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"/>
          <p:cNvSpPr/>
          <p:nvPr/>
        </p:nvSpPr>
        <p:spPr>
          <a:xfrm flipV="1">
            <a:off x="8391600" y="2219040"/>
            <a:ext cx="0" cy="152280"/>
          </a:xfrm>
          <a:prstGeom prst="line">
            <a:avLst/>
          </a:prstGeom>
          <a:ln w="38160">
            <a:solidFill>
              <a:srgbClr val="ff00ff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1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7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3" dur="7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700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3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00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3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30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3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876560" y="75960"/>
            <a:ext cx="42670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Radio Frequency Precession of 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“Spin = 1/2” Nuclei in Magnetic Field  of ~23.5 kGaus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595800" y="0"/>
            <a:ext cx="2680920" cy="6858000"/>
            <a:chOff x="595800" y="0"/>
            <a:chExt cx="2680920" cy="6858000"/>
          </a:xfrm>
        </p:grpSpPr>
        <p:pic>
          <p:nvPicPr>
            <p:cNvPr id="277" name="" descr=""/>
            <p:cNvPicPr/>
            <p:nvPr/>
          </p:nvPicPr>
          <p:blipFill>
            <a:blip r:embed="rId1"/>
            <a:stretch/>
          </p:blipFill>
          <p:spPr>
            <a:xfrm>
              <a:off x="1352520" y="0"/>
              <a:ext cx="19242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595800" y="2879640"/>
              <a:ext cx="80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H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5562720" y="327672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Hz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943600" y="37339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.9 = °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083760" y="114300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102840" y="1447920"/>
            <a:ext cx="52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115440" y="4191120"/>
            <a:ext cx="52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115440" y="5029200"/>
            <a:ext cx="56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119040" y="5613480"/>
            <a:ext cx="6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1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887640" y="502920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811320" y="1143000"/>
            <a:ext cx="11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9.9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887640" y="560088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9360" y="0"/>
            <a:ext cx="3524760" cy="1066680"/>
            <a:chOff x="9360" y="0"/>
            <a:chExt cx="3524760" cy="1066680"/>
          </a:xfrm>
        </p:grpSpPr>
        <p:sp>
          <p:nvSpPr>
            <p:cNvPr id="290" name=""/>
            <p:cNvSpPr/>
            <p:nvPr/>
          </p:nvSpPr>
          <p:spPr>
            <a:xfrm>
              <a:off x="1447920" y="0"/>
              <a:ext cx="990360" cy="106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2025720" y="151920"/>
              <a:ext cx="0" cy="76212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9360" y="0"/>
              <a:ext cx="3524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66,000 MHz                   </a:t>
              </a:r>
              <a:r>
                <a:rPr b="0" i="1" lang="en-US" sz="3200" spc="-1" strike="noStrike">
                  <a:solidFill>
                    <a:srgbClr val="0000ff"/>
                  </a:solidFill>
                  <a:latin typeface="Times New Roman"/>
                </a:rPr>
                <a:t>e</a:t>
              </a:r>
              <a:r>
                <a:rPr b="0" i="1" lang="en-US" sz="4000" spc="-1" strike="noStrike" baseline="30000">
                  <a:solidFill>
                    <a:srgbClr val="0000ff"/>
                  </a:solidFill>
                  <a:latin typeface="Times New Roman"/>
                </a:rPr>
                <a:t>-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0" y="14479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T Public Radio 9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876920" y="426708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 MHz = 0.003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0.01 °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876920" y="5181480"/>
            <a:ext cx="4419360" cy="15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librium Up:Down ratio           at room tempera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E/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.01/3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.00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61722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CBS 0.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181480" y="64008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ss of 3 in 200,000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876920" y="472428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uantiz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gles for S = 1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343400" y="2333520"/>
            <a:ext cx="4397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know these nuclei spin, because they are magnetic, and they precess when an applied field tries to twist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"/>
          <p:cNvGrpSpPr/>
          <p:nvPr/>
        </p:nvGrpSpPr>
        <p:grpSpPr>
          <a:xfrm>
            <a:off x="3853800" y="3821040"/>
            <a:ext cx="1067040" cy="1067040"/>
            <a:chOff x="3853800" y="3821040"/>
            <a:chExt cx="1067040" cy="1067040"/>
          </a:xfrm>
        </p:grpSpPr>
        <p:sp>
          <p:nvSpPr>
            <p:cNvPr id="301" name=""/>
            <p:cNvSpPr/>
            <p:nvPr/>
          </p:nvSpPr>
          <p:spPr>
            <a:xfrm flipH="1">
              <a:off x="3853800" y="3821040"/>
              <a:ext cx="1066680" cy="10670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4058640" y="4344480"/>
              <a:ext cx="313920" cy="46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3853800" y="3823920"/>
              <a:ext cx="1065960" cy="1061640"/>
              <a:chOff x="3853800" y="3823920"/>
              <a:chExt cx="1065960" cy="1061640"/>
            </a:xfrm>
          </p:grpSpPr>
          <p:sp>
            <p:nvSpPr>
              <p:cNvPr id="304" name=""/>
              <p:cNvSpPr/>
              <p:nvPr/>
            </p:nvSpPr>
            <p:spPr>
              <a:xfrm>
                <a:off x="4367520" y="4356720"/>
                <a:ext cx="466200" cy="313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4367520" y="3891600"/>
                <a:ext cx="313560" cy="466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 flipV="1">
                <a:off x="3917520" y="4052520"/>
                <a:ext cx="466560" cy="313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V="1">
                <a:off x="4371120" y="4234680"/>
                <a:ext cx="548640" cy="120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flipV="1">
                <a:off x="4253760" y="3823920"/>
                <a:ext cx="120960" cy="549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3853800" y="4347360"/>
                <a:ext cx="549000" cy="121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365000" y="4336200"/>
                <a:ext cx="120960" cy="549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90° RF Pulse and the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“Rotating Frame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1828800" y="1676160"/>
            <a:ext cx="0" cy="4190760"/>
          </a:xfrm>
          <a:prstGeom prst="line">
            <a:avLst/>
          </a:prstGeom>
          <a:ln w="254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357800" y="1828800"/>
            <a:ext cx="0" cy="351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4354560" y="2819160"/>
            <a:ext cx="0" cy="152388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4379760" y="4343040"/>
            <a:ext cx="435240" cy="468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746520" y="2795760"/>
            <a:ext cx="1219320" cy="107640"/>
          </a:xfrm>
          <a:prstGeom prst="ellipse">
            <a:avLst/>
          </a:prstGeom>
          <a:solidFill>
            <a:srgbClr val="a7c8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740040" y="2795760"/>
            <a:ext cx="1219320" cy="60120"/>
          </a:xfrm>
          <a:custGeom>
            <a:avLst/>
            <a:gdLst/>
            <a:ahLst/>
            <a:rect l="l" t="t" r="r" b="b"/>
            <a:pathLst>
              <a:path w="768" h="38">
                <a:moveTo>
                  <a:pt x="0" y="38"/>
                </a:moveTo>
                <a:cubicBezTo>
                  <a:pt x="2" y="0"/>
                  <a:pt x="764" y="2"/>
                  <a:pt x="768" y="38"/>
                </a:cubicBez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3809880" y="2793960"/>
            <a:ext cx="1067040" cy="1560600"/>
            <a:chOff x="3809880" y="2793960"/>
            <a:chExt cx="1067040" cy="1560600"/>
          </a:xfrm>
        </p:grpSpPr>
        <p:sp>
          <p:nvSpPr>
            <p:cNvPr id="319" name=""/>
            <p:cNvSpPr/>
            <p:nvPr/>
          </p:nvSpPr>
          <p:spPr>
            <a:xfrm flipH="1" flipV="1">
              <a:off x="3809880" y="2819520"/>
              <a:ext cx="565200" cy="1535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 flipV="1">
              <a:off x="4047840" y="2803680"/>
              <a:ext cx="336600" cy="1535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 flipV="1">
              <a:off x="4343400" y="2793960"/>
              <a:ext cx="31680" cy="1535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4368960" y="2803680"/>
              <a:ext cx="272880" cy="1519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4371840" y="2819520"/>
              <a:ext cx="505080" cy="1535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4737240" y="2773440"/>
            <a:ext cx="63360" cy="119160"/>
          </a:xfrm>
          <a:custGeom>
            <a:avLst/>
            <a:gdLst/>
            <a:ahLst/>
            <a:rect l="l" t="t" r="r" b="b"/>
            <a:pathLst>
              <a:path w="40" h="75">
                <a:moveTo>
                  <a:pt x="40" y="0"/>
                </a:moveTo>
                <a:cubicBezTo>
                  <a:pt x="16" y="3"/>
                  <a:pt x="24" y="24"/>
                  <a:pt x="0" y="75"/>
                </a:cubicBezTo>
              </a:path>
            </a:pathLst>
          </a:custGeom>
          <a:noFill/>
          <a:ln w="3168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794120" y="2768760"/>
            <a:ext cx="147600" cy="3098520"/>
          </a:xfrm>
          <a:custGeom>
            <a:avLst/>
            <a:gdLst/>
            <a:ahLst/>
            <a:rect l="l" t="t" r="r" b="b"/>
            <a:pathLst>
              <a:path w="93" h="1952">
                <a:moveTo>
                  <a:pt x="0" y="0"/>
                </a:moveTo>
                <a:cubicBezTo>
                  <a:pt x="80" y="8"/>
                  <a:pt x="93" y="1952"/>
                  <a:pt x="2" y="1952"/>
                </a:cubicBezTo>
              </a:path>
            </a:pathLst>
          </a:custGeom>
          <a:noFill/>
          <a:ln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733920" y="2843280"/>
            <a:ext cx="1234800" cy="1508040"/>
          </a:xfrm>
          <a:custGeom>
            <a:avLst/>
            <a:gdLst/>
            <a:ahLst/>
            <a:rect l="l" t="t" r="r" b="b"/>
            <a:pathLst>
              <a:path w="778" h="950">
                <a:moveTo>
                  <a:pt x="394" y="950"/>
                </a:moveTo>
                <a:cubicBezTo>
                  <a:pt x="540" y="610"/>
                  <a:pt x="576" y="508"/>
                  <a:pt x="778" y="2"/>
                </a:cubicBezTo>
                <a:cubicBezTo>
                  <a:pt x="772" y="35"/>
                  <a:pt x="522" y="41"/>
                  <a:pt x="392" y="41"/>
                </a:cubicBezTo>
                <a:cubicBezTo>
                  <a:pt x="262" y="41"/>
                  <a:pt x="12" y="37"/>
                  <a:pt x="0" y="0"/>
                </a:cubicBezTo>
                <a:cubicBezTo>
                  <a:pt x="168" y="408"/>
                  <a:pt x="312" y="756"/>
                  <a:pt x="394" y="95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749840" y="2852640"/>
            <a:ext cx="209520" cy="47880"/>
          </a:xfrm>
          <a:custGeom>
            <a:avLst/>
            <a:gdLst/>
            <a:ahLst/>
            <a:rect l="l" t="t" r="r" b="b"/>
            <a:pathLst>
              <a:path w="132" h="30">
                <a:moveTo>
                  <a:pt x="0" y="30"/>
                </a:moveTo>
                <a:cubicBezTo>
                  <a:pt x="44" y="24"/>
                  <a:pt x="130" y="16"/>
                  <a:pt x="132" y="0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349880" y="2852640"/>
            <a:ext cx="434880" cy="428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740040" y="2852640"/>
            <a:ext cx="936720" cy="108000"/>
          </a:xfrm>
          <a:custGeom>
            <a:avLst/>
            <a:gdLst/>
            <a:ahLst/>
            <a:rect l="l" t="t" r="r" b="b"/>
            <a:pathLst>
              <a:path w="590" h="68">
                <a:moveTo>
                  <a:pt x="0" y="0"/>
                </a:moveTo>
                <a:cubicBezTo>
                  <a:pt x="0" y="16"/>
                  <a:pt x="208" y="68"/>
                  <a:pt x="590" y="36"/>
                </a:cubicBezTo>
              </a:path>
            </a:pathLst>
          </a:custGeom>
          <a:noFill/>
          <a:ln w="442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4368960" y="2900160"/>
            <a:ext cx="380880" cy="14475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3886200" y="2863800"/>
            <a:ext cx="1076400" cy="1499760"/>
            <a:chOff x="3886200" y="2863800"/>
            <a:chExt cx="1076400" cy="1499760"/>
          </a:xfrm>
        </p:grpSpPr>
        <p:sp>
          <p:nvSpPr>
            <p:cNvPr id="332" name=""/>
            <p:cNvSpPr/>
            <p:nvPr/>
          </p:nvSpPr>
          <p:spPr>
            <a:xfrm flipV="1">
              <a:off x="4384800" y="2863800"/>
              <a:ext cx="577800" cy="1457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4365720" y="2895120"/>
              <a:ext cx="129960" cy="1468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 flipV="1">
              <a:off x="3886200" y="2895120"/>
              <a:ext cx="479520" cy="1468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4190760" y="2895480"/>
              <a:ext cx="174600" cy="1457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4681440" y="2897280"/>
            <a:ext cx="123840" cy="2970000"/>
          </a:xfrm>
          <a:custGeom>
            <a:avLst/>
            <a:gdLst/>
            <a:ahLst/>
            <a:rect l="l" t="t" r="r" b="b"/>
            <a:pathLst>
              <a:path w="78" h="1871">
                <a:moveTo>
                  <a:pt x="43" y="0"/>
                </a:moveTo>
                <a:cubicBezTo>
                  <a:pt x="0" y="274"/>
                  <a:pt x="0" y="1871"/>
                  <a:pt x="78" y="1871"/>
                </a:cubicBezTo>
              </a:path>
            </a:pathLst>
          </a:custGeom>
          <a:noFill/>
          <a:ln w="442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12760" y="6080040"/>
            <a:ext cx="329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Applied Magnetic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359240" y="2057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486400" y="89856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cessing proton gives r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constant vertical fiel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334120" y="1828800"/>
            <a:ext cx="34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ll rotating horizontal field generate 100 MHz RF sign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334120" y="2438280"/>
            <a:ext cx="3429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, because there are many precessing protons wi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possible phas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334120" y="3641760"/>
            <a:ext cx="3581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er a “rotating frame”       in which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bits      at 100 MHz - protons seem to stand sti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s 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o applied fiel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257800" y="5470560"/>
            <a:ext cx="37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just long enough to rotate all nuclear spin axes by 90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62320" y="2057400"/>
            <a:ext cx="213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Fast prec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(~100 MH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666880" y="4038480"/>
            <a:ext cx="1676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Times New Roman"/>
              </a:rPr>
              <a:t>Slow prec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Times New Roman"/>
              </a:rPr>
              <a:t>(~0.1 MH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746680" y="3330720"/>
            <a:ext cx="26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rizontal fields can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995720" y="6156360"/>
            <a:ext cx="43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equent precession gene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 MHz RF signal in lab fr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56080" y="3657600"/>
            <a:ext cx="3657600" cy="2514600"/>
          </a:xfrm>
          <a:prstGeom prst="roundRect">
            <a:avLst>
              <a:gd name="adj" fmla="val 16667"/>
            </a:avLst>
          </a:prstGeom>
          <a:solidFill>
            <a:srgbClr val="ff00ff">
              <a:alpha val="20000"/>
            </a:srgbClr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470400" y="5486400"/>
            <a:ext cx="178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100 MHz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n lab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884760" y="5380200"/>
            <a:ext cx="91440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374000" y="3740040"/>
            <a:ext cx="1569600" cy="1235160"/>
            <a:chOff x="4374000" y="3740040"/>
            <a:chExt cx="1569600" cy="1235160"/>
          </a:xfrm>
        </p:grpSpPr>
        <p:sp>
          <p:nvSpPr>
            <p:cNvPr id="352" name=""/>
            <p:cNvSpPr/>
            <p:nvPr/>
          </p:nvSpPr>
          <p:spPr>
            <a:xfrm rot="5400000">
              <a:off x="5278320" y="4295880"/>
              <a:ext cx="1219320" cy="107640"/>
            </a:xfrm>
            <a:prstGeom prst="ellipse">
              <a:avLst/>
            </a:prstGeom>
            <a:solidFill>
              <a:srgbClr val="a7c8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" name=""/>
            <p:cNvGrpSpPr/>
            <p:nvPr/>
          </p:nvGrpSpPr>
          <p:grpSpPr>
            <a:xfrm>
              <a:off x="4383720" y="3816000"/>
              <a:ext cx="1559880" cy="1066680"/>
              <a:chOff x="4383720" y="3816000"/>
              <a:chExt cx="1559880" cy="1066680"/>
            </a:xfrm>
          </p:grpSpPr>
          <p:sp>
            <p:nvSpPr>
              <p:cNvPr id="354" name=""/>
              <p:cNvSpPr/>
              <p:nvPr/>
            </p:nvSpPr>
            <p:spPr>
              <a:xfrm flipV="1">
                <a:off x="4383720" y="3816000"/>
                <a:ext cx="1534680" cy="5648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V="1">
                <a:off x="4399560" y="4054320"/>
                <a:ext cx="1534680" cy="3362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4408920" y="4349160"/>
                <a:ext cx="1534680" cy="313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415400" y="4375080"/>
                <a:ext cx="1518840" cy="2725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383720" y="4377960"/>
                <a:ext cx="1534680" cy="504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9" name=""/>
            <p:cNvSpPr/>
            <p:nvPr/>
          </p:nvSpPr>
          <p:spPr>
            <a:xfrm rot="5400000">
              <a:off x="4522680" y="3603600"/>
              <a:ext cx="1235160" cy="1507680"/>
            </a:xfrm>
            <a:custGeom>
              <a:avLst/>
              <a:gdLst/>
              <a:ahLst/>
              <a:rect l="l" t="t" r="r" b="b"/>
              <a:pathLst>
                <a:path w="778" h="950">
                  <a:moveTo>
                    <a:pt x="394" y="950"/>
                  </a:moveTo>
                  <a:cubicBezTo>
                    <a:pt x="540" y="610"/>
                    <a:pt x="576" y="508"/>
                    <a:pt x="778" y="2"/>
                  </a:cubicBezTo>
                  <a:cubicBezTo>
                    <a:pt x="772" y="35"/>
                    <a:pt x="522" y="41"/>
                    <a:pt x="392" y="41"/>
                  </a:cubicBezTo>
                  <a:cubicBezTo>
                    <a:pt x="262" y="41"/>
                    <a:pt x="12" y="37"/>
                    <a:pt x="0" y="0"/>
                  </a:cubicBezTo>
                  <a:cubicBezTo>
                    <a:pt x="168" y="408"/>
                    <a:pt x="312" y="756"/>
                    <a:pt x="394" y="95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389840" y="4375080"/>
              <a:ext cx="1447560" cy="380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1" name=""/>
            <p:cNvGrpSpPr/>
            <p:nvPr/>
          </p:nvGrpSpPr>
          <p:grpSpPr>
            <a:xfrm>
              <a:off x="4374000" y="3892320"/>
              <a:ext cx="1499760" cy="1076400"/>
              <a:chOff x="4374000" y="3892320"/>
              <a:chExt cx="1499760" cy="1076400"/>
            </a:xfrm>
          </p:grpSpPr>
          <p:sp>
            <p:nvSpPr>
              <p:cNvPr id="362" name=""/>
              <p:cNvSpPr/>
              <p:nvPr/>
            </p:nvSpPr>
            <p:spPr>
              <a:xfrm>
                <a:off x="4416480" y="4390920"/>
                <a:ext cx="1457280" cy="577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374000" y="4371840"/>
                <a:ext cx="1468440" cy="1299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V="1">
                <a:off x="4374000" y="3892320"/>
                <a:ext cx="1468440" cy="4795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V="1">
                <a:off x="4384800" y="4196880"/>
                <a:ext cx="1457280" cy="1746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6" name=""/>
          <p:cNvGrpSpPr/>
          <p:nvPr/>
        </p:nvGrpSpPr>
        <p:grpSpPr>
          <a:xfrm>
            <a:off x="2787480" y="3733920"/>
            <a:ext cx="1569600" cy="1234800"/>
            <a:chOff x="2787480" y="3733920"/>
            <a:chExt cx="1569600" cy="1234800"/>
          </a:xfrm>
        </p:grpSpPr>
        <p:sp>
          <p:nvSpPr>
            <p:cNvPr id="367" name=""/>
            <p:cNvSpPr/>
            <p:nvPr/>
          </p:nvSpPr>
          <p:spPr>
            <a:xfrm flipH="1" rot="16200000">
              <a:off x="2233800" y="4289400"/>
              <a:ext cx="1218960" cy="108000"/>
            </a:xfrm>
            <a:prstGeom prst="ellipse">
              <a:avLst/>
            </a:prstGeom>
            <a:solidFill>
              <a:srgbClr val="a7c8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8" name=""/>
            <p:cNvGrpSpPr/>
            <p:nvPr/>
          </p:nvGrpSpPr>
          <p:grpSpPr>
            <a:xfrm>
              <a:off x="2787480" y="3809880"/>
              <a:ext cx="1560600" cy="1065960"/>
              <a:chOff x="2787480" y="3809880"/>
              <a:chExt cx="1560600" cy="1065960"/>
            </a:xfrm>
          </p:grpSpPr>
          <p:sp>
            <p:nvSpPr>
              <p:cNvPr id="369" name=""/>
              <p:cNvSpPr/>
              <p:nvPr/>
            </p:nvSpPr>
            <p:spPr>
              <a:xfrm flipH="1" flipV="1">
                <a:off x="2813040" y="3809880"/>
                <a:ext cx="1535040" cy="5644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H="1" flipV="1">
                <a:off x="2797200" y="4047840"/>
                <a:ext cx="1535040" cy="3362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H="1" flipV="1">
                <a:off x="2787480" y="4342680"/>
                <a:ext cx="1535040" cy="313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>
                <a:off x="2797200" y="4368240"/>
                <a:ext cx="1519200" cy="2725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H="1">
                <a:off x="2813040" y="4371120"/>
                <a:ext cx="1535040" cy="504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4" name=""/>
            <p:cNvSpPr/>
            <p:nvPr/>
          </p:nvSpPr>
          <p:spPr>
            <a:xfrm flipH="1" rot="16200000">
              <a:off x="2972880" y="3597120"/>
              <a:ext cx="1234800" cy="1508040"/>
            </a:xfrm>
            <a:custGeom>
              <a:avLst/>
              <a:gdLst/>
              <a:ahLst/>
              <a:rect l="l" t="t" r="r" b="b"/>
              <a:pathLst>
                <a:path w="778" h="950">
                  <a:moveTo>
                    <a:pt x="394" y="950"/>
                  </a:moveTo>
                  <a:cubicBezTo>
                    <a:pt x="540" y="610"/>
                    <a:pt x="576" y="508"/>
                    <a:pt x="778" y="2"/>
                  </a:cubicBezTo>
                  <a:cubicBezTo>
                    <a:pt x="772" y="35"/>
                    <a:pt x="522" y="41"/>
                    <a:pt x="392" y="41"/>
                  </a:cubicBezTo>
                  <a:cubicBezTo>
                    <a:pt x="262" y="41"/>
                    <a:pt x="12" y="37"/>
                    <a:pt x="0" y="0"/>
                  </a:cubicBezTo>
                  <a:cubicBezTo>
                    <a:pt x="168" y="408"/>
                    <a:pt x="312" y="756"/>
                    <a:pt x="394" y="95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2894040" y="4368600"/>
              <a:ext cx="1447920" cy="380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6" name=""/>
            <p:cNvGrpSpPr/>
            <p:nvPr/>
          </p:nvGrpSpPr>
          <p:grpSpPr>
            <a:xfrm>
              <a:off x="2857320" y="3885480"/>
              <a:ext cx="1499760" cy="1076040"/>
              <a:chOff x="2857320" y="3885480"/>
              <a:chExt cx="1499760" cy="1076040"/>
            </a:xfrm>
          </p:grpSpPr>
          <p:sp>
            <p:nvSpPr>
              <p:cNvPr id="377" name=""/>
              <p:cNvSpPr/>
              <p:nvPr/>
            </p:nvSpPr>
            <p:spPr>
              <a:xfrm flipH="1">
                <a:off x="2857320" y="4384080"/>
                <a:ext cx="1457280" cy="577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H="1">
                <a:off x="2888640" y="4365000"/>
                <a:ext cx="1468440" cy="1296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H="1" flipV="1">
                <a:off x="2888640" y="3885480"/>
                <a:ext cx="1468440" cy="4791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H="1" flipV="1">
                <a:off x="2889000" y="4190400"/>
                <a:ext cx="1457280" cy="1742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1" name=""/>
          <p:cNvGrpSpPr/>
          <p:nvPr/>
        </p:nvGrpSpPr>
        <p:grpSpPr>
          <a:xfrm>
            <a:off x="3738600" y="3767040"/>
            <a:ext cx="1220400" cy="1218960"/>
            <a:chOff x="3738600" y="3767040"/>
            <a:chExt cx="1220400" cy="1218960"/>
          </a:xfrm>
        </p:grpSpPr>
        <p:sp>
          <p:nvSpPr>
            <p:cNvPr id="382" name=""/>
            <p:cNvSpPr/>
            <p:nvPr/>
          </p:nvSpPr>
          <p:spPr>
            <a:xfrm>
              <a:off x="3738600" y="3767040"/>
              <a:ext cx="1219320" cy="1218960"/>
            </a:xfrm>
            <a:prstGeom prst="ellipse">
              <a:avLst/>
            </a:prstGeom>
            <a:solidFill>
              <a:srgbClr val="bbe0e3"/>
            </a:soli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65720" y="4365360"/>
              <a:ext cx="358560" cy="53352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4" name=""/>
            <p:cNvGrpSpPr/>
            <p:nvPr/>
          </p:nvGrpSpPr>
          <p:grpSpPr>
            <a:xfrm>
              <a:off x="3740040" y="3769920"/>
              <a:ext cx="1218960" cy="1214280"/>
              <a:chOff x="3740040" y="3769920"/>
              <a:chExt cx="1218960" cy="1214280"/>
            </a:xfrm>
          </p:grpSpPr>
          <p:sp>
            <p:nvSpPr>
              <p:cNvPr id="385" name=""/>
              <p:cNvSpPr/>
              <p:nvPr/>
            </p:nvSpPr>
            <p:spPr>
              <a:xfrm flipH="1">
                <a:off x="3838320" y="4379760"/>
                <a:ext cx="533160" cy="35856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H="1" flipV="1">
                <a:off x="4013280" y="3847680"/>
                <a:ext cx="358560" cy="5335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V="1">
                <a:off x="4352760" y="4031640"/>
                <a:ext cx="533520" cy="3589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H="1" flipV="1">
                <a:off x="3740040" y="4240440"/>
                <a:ext cx="627840" cy="138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V="1">
                <a:off x="4363200" y="3769920"/>
                <a:ext cx="138240" cy="6282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331160" y="4369320"/>
                <a:ext cx="627840" cy="138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>
                <a:off x="4236120" y="4356000"/>
                <a:ext cx="138240" cy="6282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2" name=""/>
          <p:cNvSpPr/>
          <p:nvPr/>
        </p:nvSpPr>
        <p:spPr>
          <a:xfrm>
            <a:off x="4313160" y="2844720"/>
            <a:ext cx="50760" cy="1498680"/>
          </a:xfrm>
          <a:custGeom>
            <a:avLst/>
            <a:gdLst/>
            <a:ahLst/>
            <a:rect l="l" t="t" r="r" b="b"/>
            <a:pathLst>
              <a:path w="32" h="944">
                <a:moveTo>
                  <a:pt x="32" y="0"/>
                </a:moveTo>
                <a:cubicBezTo>
                  <a:pt x="0" y="115"/>
                  <a:pt x="24" y="739"/>
                  <a:pt x="27" y="944"/>
                </a:cubicBezTo>
              </a:path>
            </a:pathLst>
          </a:custGeom>
          <a:noFill/>
          <a:ln w="4428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368960" y="2870280"/>
            <a:ext cx="588960" cy="1490760"/>
          </a:xfrm>
          <a:custGeom>
            <a:avLst/>
            <a:gdLst/>
            <a:ahLst/>
            <a:rect l="l" t="t" r="r" b="b"/>
            <a:pathLst>
              <a:path w="371" h="939">
                <a:moveTo>
                  <a:pt x="0" y="939"/>
                </a:moveTo>
                <a:lnTo>
                  <a:pt x="371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363920" y="2806560"/>
            <a:ext cx="38160" cy="1557360"/>
          </a:xfrm>
          <a:custGeom>
            <a:avLst/>
            <a:gdLst/>
            <a:ahLst/>
            <a:rect l="l" t="t" r="r" b="b"/>
            <a:pathLst>
              <a:path w="24" h="981">
                <a:moveTo>
                  <a:pt x="0" y="981"/>
                </a:moveTo>
                <a:lnTo>
                  <a:pt x="24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741840" y="2862360"/>
            <a:ext cx="627120" cy="1488960"/>
          </a:xfrm>
          <a:custGeom>
            <a:avLst/>
            <a:gdLst/>
            <a:ahLst/>
            <a:rect l="l" t="t" r="r" b="b"/>
            <a:pathLst>
              <a:path w="395" h="938">
                <a:moveTo>
                  <a:pt x="395" y="938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241880" y="2933640"/>
            <a:ext cx="122040" cy="1417680"/>
          </a:xfrm>
          <a:custGeom>
            <a:avLst/>
            <a:gdLst/>
            <a:ahLst/>
            <a:rect l="l" t="t" r="r" b="b"/>
            <a:pathLst>
              <a:path w="77" h="893">
                <a:moveTo>
                  <a:pt x="77" y="893"/>
                </a:moveTo>
                <a:lnTo>
                  <a:pt x="0" y="0"/>
                </a:lnTo>
              </a:path>
            </a:pathLst>
          </a:custGeom>
          <a:noFill/>
          <a:ln w="698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2666880" y="5394240"/>
            <a:ext cx="3200400" cy="1008720"/>
            <a:chOff x="2666880" y="5394240"/>
            <a:chExt cx="3200400" cy="1008720"/>
          </a:xfrm>
        </p:grpSpPr>
        <p:sp>
          <p:nvSpPr>
            <p:cNvPr id="398" name=""/>
            <p:cNvSpPr/>
            <p:nvPr/>
          </p:nvSpPr>
          <p:spPr>
            <a:xfrm>
              <a:off x="2666880" y="5394240"/>
              <a:ext cx="32004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ntil “relaxation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establish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quilibrium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243240" y="5394240"/>
              <a:ext cx="2057400" cy="988920"/>
            </a:xfrm>
            <a:prstGeom prst="bracketPair">
              <a:avLst>
                <a:gd name="adj" fmla="val 17129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5486400" y="150804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rotating horizontal fiel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334120" y="4861080"/>
            <a:ext cx="373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lse a very </a:t>
            </a:r>
            <a:r>
              <a:rPr b="0" lang="en-US" sz="2000" spc="-1" strike="noStrike">
                <a:solidFill>
                  <a:srgbClr val="ff00ff"/>
                </a:solidFill>
                <a:latin typeface="Times New Roman"/>
              </a:rPr>
              <a:t>weak magnetic fiel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00ff"/>
                </a:solidFill>
                <a:latin typeface="Times New Roman"/>
              </a:rPr>
              <a:t>fixed in this rotating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7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1" repeatCount="100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700"/>
                            </p:stCondLst>
                            <p:childTnLst>
                              <p:par>
                                <p:cTn id="3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2700"/>
                            </p:stCondLst>
                            <p:childTnLst>
                              <p:par>
                                <p:cTn id="4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2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1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8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1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4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7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0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3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81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2000"/>
                            </p:stCondLst>
                            <p:childTnLst>
                              <p:par>
                                <p:cTn id="4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4000"/>
                            </p:stCondLst>
                            <p:childTnLst>
                              <p:par>
                                <p:cTn id="4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8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1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7" dur="1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0" dur="1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3" dur="1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6" dur="1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9" dur="1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5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500"/>
                            </p:stCondLst>
                            <p:childTnLst>
                              <p:par>
                                <p:cTn id="57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500"/>
                            </p:stCondLst>
                            <p:childTnLst>
                              <p:par>
                                <p:cTn id="5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2500"/>
                            </p:stCondLst>
                            <p:childTnLst>
                              <p:par>
                                <p:cTn id="5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2500"/>
                            </p:stCondLst>
                            <p:childTnLst>
                              <p:par>
                                <p:cTn id="58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8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90° pulse makes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pinning nuclei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, 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“broadcast” a frequency that tells their                local magnetic field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ff"/>
                </a:solidFill>
                <a:latin typeface="Times New Roman"/>
              </a:rPr>
              <a:t>MRI:</a:t>
            </a:r>
            <a:br>
              <a:rPr sz="8000"/>
            </a:br>
            <a:br>
              <a:rPr sz="1800"/>
            </a:b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locating protons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within body using </a:t>
            </a:r>
            <a:r>
              <a:rPr b="0" i="1" lang="en-US" sz="6600" spc="-1" strike="noStrike">
                <a:solidFill>
                  <a:srgbClr val="000000"/>
                </a:solidFill>
                <a:latin typeface="Times New Roman"/>
              </a:rPr>
              <a:t>non-uniform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fiel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R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1494000" y="0"/>
            <a:ext cx="6278400" cy="685800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1600200" y="1600200"/>
            <a:ext cx="1828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609480" y="3568680"/>
            <a:ext cx="8077320" cy="283212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How to find Crickets,</a:t>
            </a:r>
            <a:br>
              <a:rPr sz="4800"/>
            </a:b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if you can’t see them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180080" y="1965240"/>
            <a:ext cx="6746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stablish a temperature grad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d listen with a stopwatc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241760" y="5654520"/>
            <a:ext cx="19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gger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240320" y="5492880"/>
            <a:ext cx="187524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ct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plitud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=O C=C Coupling in MV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196720" y="1295280"/>
            <a:ext cx="49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9dab"/>
                </a:solidFill>
                <a:latin typeface="Arial"/>
              </a:rPr>
              <a:t>In-Ph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rmal Mode (1618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353760" y="1828800"/>
            <a:ext cx="2473920" cy="825480"/>
            <a:chOff x="3353760" y="1828800"/>
            <a:chExt cx="2473920" cy="825480"/>
          </a:xfrm>
        </p:grpSpPr>
        <p:sp>
          <p:nvSpPr>
            <p:cNvPr id="99" name=""/>
            <p:cNvSpPr/>
            <p:nvPr/>
          </p:nvSpPr>
          <p:spPr>
            <a:xfrm>
              <a:off x="3353760" y="1828800"/>
              <a:ext cx="1817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=C stret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=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stret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408120" y="2220840"/>
              <a:ext cx="1676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128920" y="2003400"/>
              <a:ext cx="69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 </a:t>
              </a:r>
              <a:r>
                <a:rPr b="0" lang="en-US" sz="2400" spc="-1" strike="noStrike">
                  <a:solidFill>
                    <a:srgbClr val="079dab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Macintosh HD:Users:michaelmcbride:Documents:Of Course:125web:125:LectureSlides:LecturesSpring2010:Lecture 58:MVK1846.mov" descr=""/>
          <p:cNvPicPr/>
          <p:nvPr/>
        </p:nvPicPr>
        <p:blipFill>
          <a:blip r:embed="rId1"/>
          <a:stretch/>
        </p:blipFill>
        <p:spPr>
          <a:xfrm>
            <a:off x="1523880" y="2627280"/>
            <a:ext cx="5562720" cy="417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" dur="28865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16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571176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571176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2560" cy="571176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2560" cy="571176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2560" cy="571176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6"/>
          <a:stretch/>
        </p:blipFill>
        <p:spPr>
          <a:xfrm>
            <a:off x="0" y="0"/>
            <a:ext cx="9142560" cy="571176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7"/>
          <a:stretch/>
        </p:blipFill>
        <p:spPr>
          <a:xfrm>
            <a:off x="0" y="0"/>
            <a:ext cx="9142560" cy="571176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8"/>
          <a:stretch/>
        </p:blipFill>
        <p:spPr>
          <a:xfrm>
            <a:off x="0" y="0"/>
            <a:ext cx="9142560" cy="571176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9"/>
          <a:stretch/>
        </p:blipFill>
        <p:spPr>
          <a:xfrm>
            <a:off x="0" y="0"/>
            <a:ext cx="9142560" cy="571176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10"/>
          <a:stretch/>
        </p:blipFill>
        <p:spPr>
          <a:xfrm>
            <a:off x="-12600" y="0"/>
            <a:ext cx="9169200" cy="571176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9142560" cy="571176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12"/>
          <a:stretch/>
        </p:blipFill>
        <p:spPr>
          <a:xfrm>
            <a:off x="0" y="0"/>
            <a:ext cx="9142560" cy="571176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13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80880" y="571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-Ray Tomogra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532120" y="6537240"/>
            <a:ext cx="354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760bfc"/>
                </a:solidFill>
                <a:uFillTx/>
                <a:latin typeface="Times New Roman"/>
                <a:hlinkClick r:id="rId14"/>
              </a:rPr>
              <a:t>www.</a:t>
            </a:r>
            <a:r>
              <a:rPr b="0" lang="en-US" sz="1000" spc="-1" strike="noStrike" u="sng">
                <a:solidFill>
                  <a:srgbClr val="760bfc"/>
                </a:solidFill>
                <a:uFillTx/>
                <a:latin typeface="Times New Roman"/>
                <a:hlinkClick r:id="rId15"/>
              </a:rPr>
              <a:t>colorado</a:t>
            </a:r>
            <a:r>
              <a:rPr b="0" lang="en-US" sz="1000" spc="-1" strike="noStrike" u="sng">
                <a:solidFill>
                  <a:srgbClr val="760bfc"/>
                </a:solidFill>
                <a:uFillTx/>
                <a:latin typeface="Times New Roman"/>
                <a:hlinkClick r:id="rId16"/>
              </a:rPr>
              <a:t>.edu/physics/2000/tomography/final_rib_cage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114800" y="0"/>
            <a:ext cx="838080" cy="4038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029200" y="152280"/>
            <a:ext cx="3886200" cy="3886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28600" y="3886200"/>
            <a:ext cx="3733920" cy="76320"/>
          </a:xfrm>
          <a:prstGeom prst="rect">
            <a:avLst/>
          </a:prstGeom>
          <a:solidFill>
            <a:srgbClr val="ffffff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0" y="31680"/>
            <a:ext cx="4114800" cy="152640"/>
          </a:xfrm>
          <a:prstGeom prst="rect">
            <a:avLst/>
          </a:prstGeom>
          <a:solidFill>
            <a:srgbClr val="c0c0c0"/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257800" y="4559400"/>
            <a:ext cx="1219320" cy="698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514600" y="4559400"/>
            <a:ext cx="1219320" cy="698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15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15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43" dur="1" fill="hold">
                                    <p:stCondLst>
                                      <p:cond evt="end">
                                        <p:tn val="639"/>
                                      </p:cond>
                                    </p:stCondLst>
                                  </p:cTn>
                                  <p:tgtEl>
                                    <p:spTgt spid="4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644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45" dur="15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652" dur="3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152280" y="1166760"/>
            <a:ext cx="5983560" cy="561492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MRI: find protons in bod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248520" y="2362320"/>
            <a:ext cx="2242800" cy="703440"/>
          </a:xfrm>
          <a:prstGeom prst="rect">
            <a:avLst/>
          </a:prstGeom>
          <a:solidFill>
            <a:srgbClr val="3e7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z-grad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115560" y="1447920"/>
            <a:ext cx="8792280" cy="3192480"/>
            <a:chOff x="115560" y="1447920"/>
            <a:chExt cx="8792280" cy="3192480"/>
          </a:xfrm>
        </p:grpSpPr>
        <p:sp>
          <p:nvSpPr>
            <p:cNvPr id="435" name=""/>
            <p:cNvSpPr/>
            <p:nvPr/>
          </p:nvSpPr>
          <p:spPr>
            <a:xfrm>
              <a:off x="5792040" y="1447920"/>
              <a:ext cx="311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d4834"/>
                  </a:solidFill>
                  <a:latin typeface="Times New Roman"/>
                </a:rPr>
                <a:t>Main Field (z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rot="20400000">
              <a:off x="4876920" y="2209680"/>
              <a:ext cx="1371600" cy="457200"/>
            </a:xfrm>
            <a:prstGeom prst="rightArrow">
              <a:avLst>
                <a:gd name="adj1" fmla="val 50000"/>
                <a:gd name="adj2" fmla="val 75000"/>
              </a:avLst>
            </a:prstGeom>
            <a:solidFill>
              <a:srgbClr val="3d483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20400000">
              <a:off x="152280" y="3962520"/>
              <a:ext cx="1371600" cy="457200"/>
            </a:xfrm>
            <a:prstGeom prst="rightArrow">
              <a:avLst>
                <a:gd name="adj1" fmla="val 50000"/>
                <a:gd name="adj2" fmla="val 75000"/>
              </a:avLst>
            </a:prstGeom>
            <a:solidFill>
              <a:srgbClr val="3d483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6248520" y="3124080"/>
            <a:ext cx="2271600" cy="703440"/>
          </a:xfrm>
          <a:prstGeom prst="rect">
            <a:avLst/>
          </a:prstGeom>
          <a:solidFill>
            <a:srgbClr val="a9b3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x-grad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262560" y="3886200"/>
            <a:ext cx="2271600" cy="703440"/>
          </a:xfrm>
          <a:prstGeom prst="rect">
            <a:avLst/>
          </a:prstGeom>
          <a:solidFill>
            <a:srgbClr val="c840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-grad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523120" y="5257800"/>
            <a:ext cx="2934720" cy="703440"/>
          </a:xfrm>
          <a:prstGeom prst="rect">
            <a:avLst/>
          </a:prstGeom>
          <a:solidFill>
            <a:srgbClr val="a41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adio anten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744360" y="990720"/>
            <a:ext cx="239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.g. fluid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0000ff"/>
                </a:solidFill>
                <a:latin typeface="Times New Roman"/>
              </a:rPr>
              <a:t>Functional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0" spc="-1" strike="noStrike">
                <a:solidFill>
                  <a:srgbClr val="0000ff"/>
                </a:solidFill>
                <a:latin typeface="Times New Roman"/>
              </a:rPr>
              <a:t>MRI:</a:t>
            </a:r>
            <a:br>
              <a:rPr sz="8000"/>
            </a:br>
            <a:br>
              <a:rPr sz="1800"/>
            </a:b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locating protons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whose signal strength is being fiddled with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LD Imag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0" y="352440"/>
            <a:ext cx="9144000" cy="620064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2425680" y="6400800"/>
            <a:ext cx="429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be0e3"/>
                </a:solidFill>
                <a:latin typeface="Times New Roman"/>
              </a:rPr>
              <a:t>http://www.csc.mrc.ac.uk/d/file/LargeFigs/Bell/fMRI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246360" y="76320"/>
            <a:ext cx="28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Cell activity in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blood oxygen suppl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increases relax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0" y="2925720"/>
            <a:ext cx="8991720" cy="3475080"/>
          </a:xfrm>
          <a:custGeom>
            <a:avLst/>
            <a:gdLst/>
            <a:ahLst/>
            <a:rect l="l" t="t" r="r" b="b"/>
            <a:pathLst>
              <a:path w="5664" h="2189">
                <a:moveTo>
                  <a:pt x="0" y="696"/>
                </a:moveTo>
                <a:lnTo>
                  <a:pt x="139" y="7"/>
                </a:lnTo>
                <a:lnTo>
                  <a:pt x="640" y="0"/>
                </a:lnTo>
                <a:lnTo>
                  <a:pt x="640" y="752"/>
                </a:lnTo>
                <a:lnTo>
                  <a:pt x="4704" y="653"/>
                </a:lnTo>
                <a:lnTo>
                  <a:pt x="4800" y="461"/>
                </a:lnTo>
                <a:lnTo>
                  <a:pt x="5664" y="413"/>
                </a:lnTo>
                <a:lnTo>
                  <a:pt x="5664" y="2189"/>
                </a:lnTo>
                <a:lnTo>
                  <a:pt x="7" y="2143"/>
                </a:lnTo>
                <a:lnTo>
                  <a:pt x="0" y="69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133720" y="3505320"/>
            <a:ext cx="4952880" cy="23619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 MRI (fM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.g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lood Oxygen-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ent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m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tial Resolution       ~1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oral Resolution      2 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ff"/>
                </a:solidFill>
                <a:latin typeface="Times New Roman"/>
              </a:rPr>
              <a:t>NMR:</a:t>
            </a:r>
            <a:br>
              <a:rPr sz="8000"/>
            </a:br>
            <a:br>
              <a:rPr sz="1800"/>
            </a:b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locating protons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within </a:t>
            </a:r>
            <a:r>
              <a:rPr b="0" i="1" lang="en-US" sz="6600" spc="-1" strike="noStrike">
                <a:solidFill>
                  <a:srgbClr val="0000ff"/>
                </a:solidFill>
                <a:latin typeface="Times New Roman"/>
              </a:rPr>
              <a:t>molecules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66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fiel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268880" y="5073480"/>
            <a:ext cx="72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5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"/>
          <p:cNvGrpSpPr/>
          <p:nvPr/>
        </p:nvGrpSpPr>
        <p:grpSpPr>
          <a:xfrm>
            <a:off x="-101520" y="0"/>
            <a:ext cx="9372600" cy="5638680"/>
            <a:chOff x="-101520" y="0"/>
            <a:chExt cx="9372600" cy="5638680"/>
          </a:xfrm>
        </p:grpSpPr>
        <p:pic>
          <p:nvPicPr>
            <p:cNvPr id="452" name="" descr=""/>
            <p:cNvPicPr/>
            <p:nvPr/>
          </p:nvPicPr>
          <p:blipFill>
            <a:blip r:embed="rId1"/>
            <a:stretch/>
          </p:blipFill>
          <p:spPr>
            <a:xfrm>
              <a:off x="-101520" y="74520"/>
              <a:ext cx="9372600" cy="550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"/>
            <p:cNvSpPr/>
            <p:nvPr/>
          </p:nvSpPr>
          <p:spPr>
            <a:xfrm>
              <a:off x="0" y="5486400"/>
              <a:ext cx="9144000" cy="152280"/>
            </a:xfrm>
            <a:prstGeom prst="rect">
              <a:avLst/>
            </a:prstGeom>
            <a:solidFill>
              <a:srgbClr val="3035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0" y="0"/>
              <a:ext cx="9144000" cy="152280"/>
            </a:xfrm>
            <a:prstGeom prst="rect">
              <a:avLst/>
            </a:prstGeom>
            <a:solidFill>
              <a:srgbClr val="3035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5562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HO-CH</a:t>
            </a:r>
            <a:r>
              <a:rPr b="0" lang="en-US" sz="6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-CH</a:t>
            </a:r>
            <a:r>
              <a:rPr b="0" lang="en-US" sz="66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-184320" y="380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15200" y="6583320"/>
            <a:ext cx="331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ttp://www.wooster.edu/chemistry/is/brubaker/n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476400" y="5807160"/>
            <a:ext cx="246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scilliscope 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195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89080" y="4724280"/>
            <a:ext cx="49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he “Chemical” Shif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3581280" y="1447920"/>
            <a:ext cx="2743200" cy="304560"/>
            <a:chOff x="3581280" y="1447920"/>
            <a:chExt cx="2743200" cy="304560"/>
          </a:xfrm>
        </p:grpSpPr>
        <p:sp>
          <p:nvSpPr>
            <p:cNvPr id="461" name=""/>
            <p:cNvSpPr/>
            <p:nvPr/>
          </p:nvSpPr>
          <p:spPr>
            <a:xfrm>
              <a:off x="3581280" y="1447920"/>
              <a:ext cx="0" cy="304560"/>
            </a:xfrm>
            <a:prstGeom prst="line">
              <a:avLst/>
            </a:prstGeom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324480" y="1447920"/>
              <a:ext cx="0" cy="304560"/>
            </a:xfrm>
            <a:prstGeom prst="line">
              <a:avLst/>
            </a:prstGeom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"/>
          <p:cNvSpPr/>
          <p:nvPr/>
        </p:nvSpPr>
        <p:spPr>
          <a:xfrm flipH="1">
            <a:off x="4876920" y="1600200"/>
            <a:ext cx="1218960" cy="0"/>
          </a:xfrm>
          <a:prstGeom prst="line">
            <a:avLst/>
          </a:prstGeom>
          <a:ln w="507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581280" y="1660680"/>
            <a:ext cx="26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2.48 pp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-76320"/>
            <a:ext cx="3657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Fractional difference in applied fiel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0.00000248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3809880" y="1600200"/>
            <a:ext cx="1067040" cy="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2422440"/>
            <a:ext cx="496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Requires very high uniformity of fiel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o avoid “MRI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0" y="5165640"/>
            <a:ext cx="8836920" cy="703440"/>
            <a:chOff x="0" y="5165640"/>
            <a:chExt cx="8836920" cy="703440"/>
          </a:xfrm>
        </p:grpSpPr>
        <p:sp>
          <p:nvSpPr>
            <p:cNvPr id="469" name=""/>
            <p:cNvSpPr/>
            <p:nvPr/>
          </p:nvSpPr>
          <p:spPr>
            <a:xfrm>
              <a:off x="0" y="5486400"/>
              <a:ext cx="8153280" cy="0"/>
            </a:xfrm>
            <a:prstGeom prst="line">
              <a:avLst/>
            </a:prstGeom>
            <a:ln w="63360">
              <a:solidFill>
                <a:srgbClr val="ffff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290440" y="5165640"/>
              <a:ext cx="54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3642840" y="0"/>
            <a:ext cx="549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Listen at fixed frequenc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une H to “hear” precess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61" dur="8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8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8000"/>
                            </p:stCondLst>
                            <p:childTnLst>
                              <p:par>
                                <p:cTn id="7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8000"/>
                            </p:stCondLst>
                            <p:childTnLst>
                              <p:par>
                                <p:cTn id="7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4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8500"/>
                            </p:stCondLst>
                            <p:childTnLst>
                              <p:par>
                                <p:cTn id="7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d of Lecture 58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ch 5, 2010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685800" y="4749840"/>
            <a:ext cx="7848720" cy="1874520"/>
            <a:chOff x="685800" y="4749840"/>
            <a:chExt cx="7848720" cy="1874520"/>
          </a:xfrm>
        </p:grpSpPr>
        <p:pic>
          <p:nvPicPr>
            <p:cNvPr id="474" name="" descr=""/>
            <p:cNvPicPr/>
            <p:nvPr/>
          </p:nvPicPr>
          <p:blipFill>
            <a:blip r:embed="rId1"/>
            <a:stretch/>
          </p:blipFill>
          <p:spPr>
            <a:xfrm>
              <a:off x="3946680" y="4749840"/>
              <a:ext cx="123480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5" name=""/>
            <p:cNvSpPr/>
            <p:nvPr/>
          </p:nvSpPr>
          <p:spPr>
            <a:xfrm>
              <a:off x="685800" y="5130720"/>
              <a:ext cx="7848720" cy="14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opyright © J.  M. McBride 2010.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ome rights reserved. Except for cited third-party materials, and those used by visiting speakers, all content is licensed under a </a:t>
              </a:r>
              <a:r>
                <a:rPr b="0" lang="en-US" sz="1100" spc="-1" strike="noStrike" u="sng">
                  <a:solidFill>
                    <a:srgbClr val="760bfc"/>
                  </a:solidFill>
                  <a:uFillTx/>
                  <a:latin typeface="Arial"/>
                  <a:hlinkClick r:id="rId2"/>
                </a:rPr>
                <a:t>Creative Commons License (Attribution-NonCommercial-ShareAlike 3.0)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Use of this content constitutes your acceptance of the noted license and the terms and conditions of use.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aterials from Wikimedia Commons are denoted by the symbol        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hird party materials may be subject to additional intellectual property notices, information, or restriction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he following attribution may be used when reusing material that is not identified as third-party content: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J. M. McBride, Chem 125. License: Creative Commons BY-NC-SA 3.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6" name="" descr=""/>
            <p:cNvPicPr/>
            <p:nvPr/>
          </p:nvPicPr>
          <p:blipFill>
            <a:blip r:embed="rId3"/>
            <a:stretch/>
          </p:blipFill>
          <p:spPr>
            <a:xfrm>
              <a:off x="6477120" y="5673960"/>
              <a:ext cx="236520" cy="2775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010280" y="3733920"/>
            <a:ext cx="2133720" cy="140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f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ame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ure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rwin-Goldilock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n Vibrational Amplitud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241760" y="5654520"/>
            <a:ext cx="19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gger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40320" y="5492880"/>
            <a:ext cx="187524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ct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plitud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=O C=C Coupling in MV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05120" y="1295280"/>
            <a:ext cx="55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ut-of-Ph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rmal Mode (1720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353760" y="1828800"/>
            <a:ext cx="2829960" cy="825480"/>
            <a:chOff x="3353760" y="1828800"/>
            <a:chExt cx="2829960" cy="825480"/>
          </a:xfrm>
        </p:grpSpPr>
        <p:sp>
          <p:nvSpPr>
            <p:cNvPr id="109" name=""/>
            <p:cNvSpPr/>
            <p:nvPr/>
          </p:nvSpPr>
          <p:spPr>
            <a:xfrm>
              <a:off x="3353760" y="1828800"/>
              <a:ext cx="1817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=C stret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=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stret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408120" y="2220840"/>
              <a:ext cx="1676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128200" y="2003400"/>
              <a:ext cx="105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-1/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" name="Macintosh HD:Users:michaelmcbride:Documents:Of Course:125web:125:LectureSlides:LecturesSpring2010:Lecture 58:MVK2000.mov" descr=""/>
          <p:cNvPicPr/>
          <p:nvPr/>
        </p:nvPicPr>
        <p:blipFill>
          <a:blip r:embed="rId1"/>
          <a:stretch/>
        </p:blipFill>
        <p:spPr>
          <a:xfrm>
            <a:off x="1447920" y="2620800"/>
            <a:ext cx="5638680" cy="423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31934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8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R in the “Real” World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of a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olymorphic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Multibillion-Dollar Pharmaceutica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952880" y="2438280"/>
            <a:ext cx="3216600" cy="3355560"/>
            <a:chOff x="4952880" y="2438280"/>
            <a:chExt cx="3216600" cy="3355560"/>
          </a:xfrm>
        </p:grpSpPr>
        <p:sp>
          <p:nvSpPr>
            <p:cNvPr id="115" name=""/>
            <p:cNvSpPr/>
            <p:nvPr/>
          </p:nvSpPr>
          <p:spPr>
            <a:xfrm>
              <a:off x="4952880" y="5334120"/>
              <a:ext cx="321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*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ifferent crystal for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40760" y="243828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4347360" y="5791320"/>
            <a:ext cx="47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ystal packing “isomer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ifferent solubility, bioavailabil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-304920" y="582480"/>
            <a:ext cx="9677520" cy="59706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523880" y="1295280"/>
            <a:ext cx="2819520" cy="1571760"/>
          </a:xfrm>
          <a:prstGeom prst="rect">
            <a:avLst/>
          </a:prstGeom>
          <a:ln w="0">
            <a:noFill/>
          </a:ln>
        </p:spPr>
      </p:pic>
      <p:grpSp>
        <p:nvGrpSpPr>
          <p:cNvPr id="121" name=""/>
          <p:cNvGrpSpPr/>
          <p:nvPr/>
        </p:nvGrpSpPr>
        <p:grpSpPr>
          <a:xfrm>
            <a:off x="1447920" y="4419720"/>
            <a:ext cx="1346040" cy="1218960"/>
            <a:chOff x="1447920" y="4419720"/>
            <a:chExt cx="1346040" cy="1218960"/>
          </a:xfrm>
        </p:grpSpPr>
        <p:pic>
          <p:nvPicPr>
            <p:cNvPr id="122" name="" descr=""/>
            <p:cNvPicPr/>
            <p:nvPr/>
          </p:nvPicPr>
          <p:blipFill>
            <a:blip r:embed="rId3"/>
            <a:stretch/>
          </p:blipFill>
          <p:spPr>
            <a:xfrm>
              <a:off x="1447920" y="4749840"/>
              <a:ext cx="1346040" cy="88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 flipV="1">
              <a:off x="1523880" y="4419720"/>
              <a:ext cx="0" cy="38088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2057400" y="4419720"/>
              <a:ext cx="0" cy="38088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4800600" y="762120"/>
            <a:ext cx="914400" cy="380880"/>
          </a:xfrm>
          <a:prstGeom prst="roundRect">
            <a:avLst>
              <a:gd name="adj" fmla="val 35000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247800" y="4983120"/>
            <a:ext cx="234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Fingerprint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19880" y="5256360"/>
            <a:ext cx="161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-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re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165800" y="289080"/>
            <a:ext cx="177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Form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523880" y="1295280"/>
            <a:ext cx="3353040" cy="4038840"/>
            <a:chOff x="1523880" y="1295280"/>
            <a:chExt cx="3353040" cy="4038840"/>
          </a:xfrm>
        </p:grpSpPr>
        <p:grpSp>
          <p:nvGrpSpPr>
            <p:cNvPr id="130" name=""/>
            <p:cNvGrpSpPr/>
            <p:nvPr/>
          </p:nvGrpSpPr>
          <p:grpSpPr>
            <a:xfrm>
              <a:off x="1523880" y="1295280"/>
              <a:ext cx="3353040" cy="4038840"/>
              <a:chOff x="1523880" y="1295280"/>
              <a:chExt cx="3353040" cy="4038840"/>
            </a:xfrm>
          </p:grpSpPr>
          <p:pic>
            <p:nvPicPr>
              <p:cNvPr id="13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523880" y="1295280"/>
                <a:ext cx="2819520" cy="1573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" name=""/>
              <p:cNvSpPr/>
              <p:nvPr/>
            </p:nvSpPr>
            <p:spPr>
              <a:xfrm>
                <a:off x="3657600" y="1981080"/>
                <a:ext cx="1219320" cy="3353040"/>
              </a:xfrm>
              <a:prstGeom prst="rect">
                <a:avLst/>
              </a:prstGeom>
              <a:solidFill>
                <a:srgbClr val="bbe0e3">
                  <a:alpha val="50000"/>
                </a:srgbClr>
              </a:solidFill>
              <a:ln w="316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3905280" y="4489560"/>
              <a:ext cx="85572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1219320" y="2971800"/>
            <a:ext cx="1295280" cy="1447920"/>
            <a:chOff x="1219320" y="2971800"/>
            <a:chExt cx="1295280" cy="1447920"/>
          </a:xfrm>
        </p:grpSpPr>
        <p:sp>
          <p:nvSpPr>
            <p:cNvPr id="135" name=""/>
            <p:cNvSpPr/>
            <p:nvPr/>
          </p:nvSpPr>
          <p:spPr>
            <a:xfrm>
              <a:off x="1219320" y="3048120"/>
              <a:ext cx="1295280" cy="1371600"/>
            </a:xfrm>
            <a:custGeom>
              <a:avLst/>
              <a:gdLst>
                <a:gd name="textAreaLeft" fmla="*/ 63000 w 1295280"/>
                <a:gd name="textAreaRight" fmla="*/ 1232280 w 1295280"/>
                <a:gd name="textAreaTop" fmla="*/ 63000 h 1371600"/>
                <a:gd name="textAreaBottom" fmla="*/ 1308600 h 1371600"/>
              </a:gdLst>
              <a:ahLst/>
              <a:rect l="textAreaLeft" t="textAreaTop" r="textAreaRight" b="textAreaBottom"/>
              <a:pathLst>
                <a:path w="21600" h="22872">
                  <a:moveTo>
                    <a:pt x="3600" y="0"/>
                  </a:moveTo>
                  <a:arcTo wR="3600" hR="3600" stAng="16200000" swAng="-5400000"/>
                  <a:lnTo>
                    <a:pt x="0" y="19272"/>
                  </a:lnTo>
                  <a:arcTo wR="3600" hR="3600" stAng="10800000" swAng="-5400000"/>
                  <a:lnTo>
                    <a:pt x="18000" y="2287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07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98560" y="2971800"/>
              <a:ext cx="485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5613480" y="762120"/>
            <a:ext cx="977760" cy="380880"/>
          </a:xfrm>
          <a:prstGeom prst="roundRect">
            <a:avLst>
              <a:gd name="adj" fmla="val 35000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73480" y="152280"/>
            <a:ext cx="18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 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482760"/>
            <a:ext cx="9144000" cy="5892480"/>
          </a:xfrm>
          <a:prstGeom prst="rect">
            <a:avLst/>
          </a:prstGeom>
          <a:ln w="0">
            <a:noFill/>
          </a:ln>
        </p:spPr>
      </p:pic>
      <p:grpSp>
        <p:nvGrpSpPr>
          <p:cNvPr id="141" name=""/>
          <p:cNvGrpSpPr/>
          <p:nvPr/>
        </p:nvGrpSpPr>
        <p:grpSpPr>
          <a:xfrm>
            <a:off x="2819880" y="4983120"/>
            <a:ext cx="5774400" cy="732960"/>
            <a:chOff x="2819880" y="4983120"/>
            <a:chExt cx="5774400" cy="732960"/>
          </a:xfrm>
        </p:grpSpPr>
        <p:sp>
          <p:nvSpPr>
            <p:cNvPr id="142" name=""/>
            <p:cNvSpPr/>
            <p:nvPr/>
          </p:nvSpPr>
          <p:spPr>
            <a:xfrm>
              <a:off x="6247800" y="4983120"/>
              <a:ext cx="234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"Fingerprint"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819880" y="5256360"/>
              <a:ext cx="161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-H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stret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7165440" y="289080"/>
            <a:ext cx="174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Form 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523880" y="1295280"/>
            <a:ext cx="3353040" cy="4038840"/>
            <a:chOff x="1523880" y="1295280"/>
            <a:chExt cx="3353040" cy="4038840"/>
          </a:xfrm>
        </p:grpSpPr>
        <p:grpSp>
          <p:nvGrpSpPr>
            <p:cNvPr id="146" name=""/>
            <p:cNvGrpSpPr/>
            <p:nvPr/>
          </p:nvGrpSpPr>
          <p:grpSpPr>
            <a:xfrm>
              <a:off x="1523880" y="1295280"/>
              <a:ext cx="3353040" cy="4038840"/>
              <a:chOff x="1523880" y="1295280"/>
              <a:chExt cx="3353040" cy="4038840"/>
            </a:xfrm>
          </p:grpSpPr>
          <p:pic>
            <p:nvPicPr>
              <p:cNvPr id="14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523880" y="1295280"/>
                <a:ext cx="2819520" cy="1573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" name=""/>
              <p:cNvSpPr/>
              <p:nvPr/>
            </p:nvSpPr>
            <p:spPr>
              <a:xfrm>
                <a:off x="3657600" y="1981080"/>
                <a:ext cx="1219320" cy="3353040"/>
              </a:xfrm>
              <a:prstGeom prst="rect">
                <a:avLst/>
              </a:prstGeom>
              <a:solidFill>
                <a:srgbClr val="bbe0e3">
                  <a:alpha val="50000"/>
                </a:srgbClr>
              </a:solidFill>
              <a:ln w="316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>
              <a:off x="3905280" y="4489560"/>
              <a:ext cx="85572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-152280" y="533520"/>
            <a:ext cx="9144000" cy="5713200"/>
          </a:xfrm>
          <a:prstGeom prst="rect">
            <a:avLst/>
          </a:prstGeom>
          <a:ln w="0">
            <a:noFill/>
          </a:ln>
        </p:spPr>
      </p:pic>
      <p:grpSp>
        <p:nvGrpSpPr>
          <p:cNvPr id="152" name=""/>
          <p:cNvGrpSpPr/>
          <p:nvPr/>
        </p:nvGrpSpPr>
        <p:grpSpPr>
          <a:xfrm>
            <a:off x="2821320" y="4983120"/>
            <a:ext cx="5772960" cy="729720"/>
            <a:chOff x="2821320" y="4983120"/>
            <a:chExt cx="5772960" cy="729720"/>
          </a:xfrm>
        </p:grpSpPr>
        <p:sp>
          <p:nvSpPr>
            <p:cNvPr id="153" name=""/>
            <p:cNvSpPr/>
            <p:nvPr/>
          </p:nvSpPr>
          <p:spPr>
            <a:xfrm>
              <a:off x="6247800" y="4983120"/>
              <a:ext cx="234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"Fingerprint"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21320" y="5253120"/>
              <a:ext cx="72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-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7165440" y="289080"/>
            <a:ext cx="174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Form 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523880" y="1295280"/>
            <a:ext cx="3353040" cy="4038840"/>
            <a:chOff x="1523880" y="1295280"/>
            <a:chExt cx="3353040" cy="4038840"/>
          </a:xfrm>
        </p:grpSpPr>
        <p:grpSp>
          <p:nvGrpSpPr>
            <p:cNvPr id="157" name=""/>
            <p:cNvGrpSpPr/>
            <p:nvPr/>
          </p:nvGrpSpPr>
          <p:grpSpPr>
            <a:xfrm>
              <a:off x="1523880" y="1295280"/>
              <a:ext cx="3353040" cy="4038840"/>
              <a:chOff x="1523880" y="1295280"/>
              <a:chExt cx="3353040" cy="4038840"/>
            </a:xfrm>
          </p:grpSpPr>
          <p:pic>
            <p:nvPicPr>
              <p:cNvPr id="15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523880" y="1295280"/>
                <a:ext cx="2819520" cy="1573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9" name=""/>
              <p:cNvSpPr/>
              <p:nvPr/>
            </p:nvSpPr>
            <p:spPr>
              <a:xfrm>
                <a:off x="3657600" y="1981080"/>
                <a:ext cx="1219320" cy="3353040"/>
              </a:xfrm>
              <a:prstGeom prst="rect">
                <a:avLst/>
              </a:prstGeom>
              <a:solidFill>
                <a:srgbClr val="bbe0e3">
                  <a:alpha val="50000"/>
                </a:srgbClr>
              </a:solidFill>
              <a:ln w="316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3905280" y="4489560"/>
              <a:ext cx="85572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3428640" y="5257800"/>
            <a:ext cx="15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truncat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5257800"/>
            <a:ext cx="4419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0" y="0"/>
            <a:ext cx="9144000" cy="5915520"/>
            <a:chOff x="0" y="0"/>
            <a:chExt cx="9144000" cy="5915520"/>
          </a:xfrm>
        </p:grpSpPr>
        <p:pic>
          <p:nvPicPr>
            <p:cNvPr id="16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529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304920" y="5334120"/>
              <a:ext cx="1549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ff00"/>
                  </a:solidFill>
                  <a:latin typeface="Times New Roman"/>
                </a:rPr>
                <a:t>Form 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2212200" y="6095880"/>
            <a:ext cx="49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roxetine Hydrochlor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0" y="0"/>
            <a:ext cx="9144000" cy="5915520"/>
            <a:chOff x="0" y="0"/>
            <a:chExt cx="9144000" cy="5915520"/>
          </a:xfrm>
        </p:grpSpPr>
        <p:grpSp>
          <p:nvGrpSpPr>
            <p:cNvPr id="168" name=""/>
            <p:cNvGrpSpPr/>
            <p:nvPr/>
          </p:nvGrpSpPr>
          <p:grpSpPr>
            <a:xfrm>
              <a:off x="0" y="0"/>
              <a:ext cx="9144000" cy="5915520"/>
              <a:chOff x="0" y="0"/>
              <a:chExt cx="9144000" cy="591552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0" y="0"/>
                <a:ext cx="9144000" cy="5915520"/>
                <a:chOff x="0" y="0"/>
                <a:chExt cx="9144000" cy="5915520"/>
              </a:xfrm>
            </p:grpSpPr>
            <p:pic>
              <p:nvPicPr>
                <p:cNvPr id="170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0"/>
                  <a:ext cx="9144000" cy="529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" name=""/>
                <p:cNvSpPr/>
                <p:nvPr/>
              </p:nvSpPr>
              <p:spPr>
                <a:xfrm>
                  <a:off x="7315200" y="5334120"/>
                  <a:ext cx="15494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0000"/>
                      </a:solidFill>
                      <a:latin typeface="Times New Roman"/>
                    </a:rPr>
                    <a:t>Form A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794880" y="1901880"/>
                <a:ext cx="6881400" cy="2897280"/>
                <a:chOff x="794880" y="1901880"/>
                <a:chExt cx="6881400" cy="289728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794880" y="4186080"/>
                  <a:ext cx="577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ff00"/>
                      </a:solidFill>
                      <a:latin typeface="Arial"/>
                    </a:rPr>
                    <a:t>1598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7239600" y="1901880"/>
                  <a:ext cx="4366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ff00"/>
                      </a:solidFill>
                      <a:latin typeface="Arial"/>
                    </a:rPr>
                    <a:t>674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3734640" y="4522680"/>
                  <a:ext cx="5220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ff00"/>
                      </a:solidFill>
                      <a:latin typeface="Arial"/>
                    </a:rPr>
                    <a:t>1183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233160" y="3859200"/>
                  <a:ext cx="577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ff00"/>
                      </a:solidFill>
                      <a:latin typeface="Arial"/>
                    </a:rPr>
                    <a:t>124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7" name=""/>
            <p:cNvGrpSpPr/>
            <p:nvPr/>
          </p:nvGrpSpPr>
          <p:grpSpPr>
            <a:xfrm>
              <a:off x="1144080" y="1219320"/>
              <a:ext cx="7184160" cy="3785040"/>
              <a:chOff x="1144080" y="1219320"/>
              <a:chExt cx="7184160" cy="3785040"/>
            </a:xfrm>
          </p:grpSpPr>
          <p:sp>
            <p:nvSpPr>
              <p:cNvPr id="178" name=""/>
              <p:cNvSpPr/>
              <p:nvPr/>
            </p:nvSpPr>
            <p:spPr>
              <a:xfrm>
                <a:off x="1371600" y="2209680"/>
                <a:ext cx="76320" cy="9907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077320" y="2209680"/>
                <a:ext cx="0" cy="9907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620120" y="1219320"/>
                <a:ext cx="75960" cy="99036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>
                <a:off x="3733560" y="4343400"/>
                <a:ext cx="152280" cy="380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144080" y="317340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Arial"/>
                  </a:rPr>
                  <a:t>156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489800" y="218268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Arial"/>
                  </a:rPr>
                  <a:t>66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850160" y="32497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Arial"/>
                  </a:rPr>
                  <a:t>59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430080" y="469728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Arial"/>
                  </a:rPr>
                  <a:t>119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" name=""/>
          <p:cNvGrpSpPr/>
          <p:nvPr/>
        </p:nvGrpSpPr>
        <p:grpSpPr>
          <a:xfrm>
            <a:off x="305640" y="2819520"/>
            <a:ext cx="3428280" cy="1721160"/>
            <a:chOff x="305640" y="2819520"/>
            <a:chExt cx="3428280" cy="1721160"/>
          </a:xfrm>
        </p:grpSpPr>
        <p:sp>
          <p:nvSpPr>
            <p:cNvPr id="187" name=""/>
            <p:cNvSpPr/>
            <p:nvPr/>
          </p:nvSpPr>
          <p:spPr>
            <a:xfrm flipH="1">
              <a:off x="3200040" y="2895480"/>
              <a:ext cx="304920" cy="9144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05640" y="299880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</a:rPr>
                <a:t>160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896560" y="426420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</a:rPr>
                <a:t>122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896560" y="380700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</a:rPr>
                <a:t>124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3200400" y="3809880"/>
              <a:ext cx="53352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609120" y="2819520"/>
              <a:ext cx="381240" cy="2286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-4680" y="-174600"/>
            <a:ext cx="9148680" cy="6115680"/>
            <a:chOff x="-4680" y="-174600"/>
            <a:chExt cx="9148680" cy="6115680"/>
          </a:xfrm>
        </p:grpSpPr>
        <p:grpSp>
          <p:nvGrpSpPr>
            <p:cNvPr id="194" name=""/>
            <p:cNvGrpSpPr/>
            <p:nvPr/>
          </p:nvGrpSpPr>
          <p:grpSpPr>
            <a:xfrm>
              <a:off x="-4680" y="-174600"/>
              <a:ext cx="9148680" cy="6115680"/>
              <a:chOff x="-4680" y="-174600"/>
              <a:chExt cx="9148680" cy="6115680"/>
            </a:xfrm>
          </p:grpSpPr>
          <p:pic>
            <p:nvPicPr>
              <p:cNvPr id="19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-4680" y="-174600"/>
                <a:ext cx="9148680" cy="5457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" name=""/>
              <p:cNvSpPr/>
              <p:nvPr/>
            </p:nvSpPr>
            <p:spPr>
              <a:xfrm>
                <a:off x="3962880" y="5359680"/>
                <a:ext cx="1526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Times New Roman"/>
                  </a:rPr>
                  <a:t>Form 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1067760" y="604800"/>
              <a:ext cx="6532560" cy="4036320"/>
              <a:chOff x="1067760" y="604800"/>
              <a:chExt cx="6532560" cy="4036320"/>
            </a:xfrm>
          </p:grpSpPr>
          <p:sp>
            <p:nvSpPr>
              <p:cNvPr id="198" name=""/>
              <p:cNvSpPr/>
              <p:nvPr/>
            </p:nvSpPr>
            <p:spPr>
              <a:xfrm>
                <a:off x="1067760" y="339732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ff"/>
                    </a:solidFill>
                    <a:latin typeface="Arial"/>
                  </a:rPr>
                  <a:t>157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163640" y="1546200"/>
                <a:ext cx="436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ff"/>
                    </a:solidFill>
                    <a:latin typeface="Arial"/>
                  </a:rPr>
                  <a:t>67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366720" y="433404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ff"/>
                    </a:solidFill>
                    <a:latin typeface="Arial"/>
                  </a:rPr>
                  <a:t>123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975840" y="425952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ff"/>
                    </a:solidFill>
                    <a:latin typeface="Arial"/>
                  </a:rPr>
                  <a:t>118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219320" y="2586240"/>
                <a:ext cx="0" cy="8380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657600" y="3272040"/>
                <a:ext cx="0" cy="10666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>
                <a:off x="7391160" y="604800"/>
                <a:ext cx="75960" cy="99072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038480" y="3805200"/>
                <a:ext cx="152640" cy="45720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6" name=""/>
          <p:cNvGrpSpPr/>
          <p:nvPr/>
        </p:nvGrpSpPr>
        <p:grpSpPr>
          <a:xfrm>
            <a:off x="378000" y="5791320"/>
            <a:ext cx="8677800" cy="398880"/>
            <a:chOff x="378000" y="5791320"/>
            <a:chExt cx="8677800" cy="398880"/>
          </a:xfrm>
        </p:grpSpPr>
        <p:sp>
          <p:nvSpPr>
            <p:cNvPr id="207" name=""/>
            <p:cNvSpPr/>
            <p:nvPr/>
          </p:nvSpPr>
          <p:spPr>
            <a:xfrm>
              <a:off x="378000" y="5791320"/>
              <a:ext cx="139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00"/>
                  </a:solidFill>
                  <a:latin typeface="Times New Roman"/>
                </a:rPr>
                <a:t>1598   124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016520" y="5791320"/>
              <a:ext cx="139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1574   123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698880" y="5791320"/>
              <a:ext cx="235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1562  1194  665  59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7201080" y="152280"/>
            <a:ext cx="761760" cy="2362320"/>
          </a:xfrm>
          <a:custGeom>
            <a:avLst/>
            <a:gdLst>
              <a:gd name="textAreaLeft" fmla="*/ 37080 w 761760"/>
              <a:gd name="textAreaRight" fmla="*/ 724680 w 761760"/>
              <a:gd name="textAreaTop" fmla="*/ 37080 h 2362320"/>
              <a:gd name="textAreaBottom" fmla="*/ 2325240 h 2362320"/>
            </a:gdLst>
            <a:ahLst/>
            <a:rect l="textAreaLeft" t="textAreaTop" r="textAreaRight" b="textAreaBottom"/>
            <a:pathLst>
              <a:path w="21600" h="66963">
                <a:moveTo>
                  <a:pt x="3600" y="0"/>
                </a:moveTo>
                <a:arcTo wR="3600" hR="3600" stAng="16200000" swAng="-5400000"/>
                <a:lnTo>
                  <a:pt x="0" y="63363"/>
                </a:lnTo>
                <a:arcTo wR="3600" hR="3600" stAng="10800000" swAng="-5400000"/>
                <a:lnTo>
                  <a:pt x="18000" y="669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315200" y="190512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5943600" y="2743200"/>
            <a:ext cx="3124080" cy="2057400"/>
            <a:chOff x="5943600" y="2743200"/>
            <a:chExt cx="3124080" cy="2057400"/>
          </a:xfrm>
        </p:grpSpPr>
        <p:sp>
          <p:nvSpPr>
            <p:cNvPr id="213" name=""/>
            <p:cNvSpPr/>
            <p:nvPr/>
          </p:nvSpPr>
          <p:spPr>
            <a:xfrm>
              <a:off x="6019920" y="2743200"/>
              <a:ext cx="2971800" cy="2057400"/>
            </a:xfrm>
            <a:prstGeom prst="rect">
              <a:avLst/>
            </a:prstGeom>
            <a:solidFill>
              <a:srgbClr val="ffffff"/>
            </a:solidFill>
            <a:ln w="63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943600" y="2806560"/>
              <a:ext cx="31240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atent Dispute: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an one detec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% of protected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B 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(675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 the presence of 95% of unprotected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A </a:t>
              </a: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(665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Times New Roman"/>
              </a:rPr>
              <a:t>Spectroscopy for</a:t>
            </a:r>
            <a:br>
              <a:rPr sz="6000"/>
            </a:br>
            <a:r>
              <a:rPr b="0" lang="en-US" sz="6000" spc="-1" strike="noStrike">
                <a:solidFill>
                  <a:srgbClr val="0000ff"/>
                </a:solidFill>
                <a:latin typeface="Times New Roman"/>
              </a:rPr>
              <a:t>Structure and Dynamic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752480" y="22543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lectroni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Visible/U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3124080"/>
            <a:ext cx="437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brationa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nfrar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0" y="4006800"/>
            <a:ext cx="437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M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adi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828080" y="5943600"/>
            <a:ext cx="528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precession problems on 125 webp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875600" y="4510080"/>
            <a:ext cx="520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Times New Roman"/>
              </a:rPr>
              <a:t>Magnetism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907640" y="4495680"/>
            <a:ext cx="4958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Times New Roman"/>
              </a:rPr>
              <a:t>Precessio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02:50:04Z</dcterms:created>
  <dc:creator>Yale University</dc:creator>
  <dc:description/>
  <dc:language>en-US</dc:language>
  <cp:lastModifiedBy>Yale University</cp:lastModifiedBy>
  <dcterms:modified xsi:type="dcterms:W3CDTF">2010-03-05T18:23:40Z</dcterms:modified>
  <cp:revision>439</cp:revision>
  <dc:subject/>
  <dc:title>PowerPoint Presentation</dc:title>
</cp:coreProperties>
</file>